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603F-0092-4DA0-939F-A969649E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96CE-B7BC-4C9C-B3D9-E1733482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B22C-91B3-46F0-9543-770796729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F9F0-BC73-4F27-8A4A-6932FCA76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3EB3-A612-4016-88FE-E4A02269D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3541-AFB3-40E6-8429-92217AE9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CF5E-0F02-433E-A10B-5E9DAA89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830C-ECBD-498A-B241-F276F385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59BF-4862-46C1-A1AC-D415A125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269E-C31B-4DB0-96F2-91F5A567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55F1-0F07-4B3E-9150-42C7E68A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6849-E128-4D1D-9897-3359D1BB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885E-F13F-4F1F-ADB1-978D44FC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7276-D8DB-4F13-9C08-D882A969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A3AE-7BF7-4820-BDDA-AFD9E111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E33C-75DC-4069-8CA6-8977833BE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D35D-5889-4C11-8843-BE54A2DB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0FA5-7EFE-44F6-87C7-38B197D2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E2F0-4596-4855-94B7-A51ACF7D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2579-EEC2-4D62-AD29-6E187CDC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5331-0464-47A1-AADB-69B89AA4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4394-9650-4ECE-AE21-55F1ABF3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1616-18FE-4DC2-9AAB-BF435A0B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8E60-93A7-4228-A266-9FB0710B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0BEB-D008-49FF-9CC4-B75FD181B90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24AE-0AB8-4EBE-B9C4-B0679BCBB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F939-8875-4F1C-8B9E-671C542BA0D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A6DF-DC48-47BC-B4D1-80737FCD9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zk3.dec.com/~rmiller/dt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Narrow"/>
              </a:rPr>
              <a:t>Overview of Data Test Program (dt)</a:t>
            </a:r>
            <a:endParaRPr b="1" lang="en-US" sz="6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124080" y="1828440"/>
            <a:ext cx="563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in T. Mi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oftware is Provi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in’s Nest Software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Paradise 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dson, NH. 030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03) 883-23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RNING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oftware MUST BE CONSIDERED DESTRUCTIVE to any data st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device under test.  NO safety precautions are ta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nsure existing data integrity during testing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ease N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T is Open Source.  You are free to copy and distribute 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see copyright notice/disclaimer for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ata Test Program (dt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9342-BC92-4500-AA3D-A6F375BB14F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F2C3903-C25D-4A41-B075-6D0CBB334B7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70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Tape Specific Feature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multiple tapes files (files= option, Write File Mar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 Space File operation used between tape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read-after-write (enable=raw, Backspace Recor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tape repositioning (enable=resets &amp; EEI on Tru6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multi-volume tapes (enable=multi or volumes= opt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ies media changed is ready via Rewind op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rry, no loader or library media changer support (ye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tape testing support planned in a future rele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Test Program (dt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A66B-1B7B-4CEE-824F-150FAA5D602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CAAF9F-22E9-47E6-854E-ABCA7A14CBA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56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Serial Line Feature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setting of flow control (flow=none,cts_rts, xon_xoff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setting of parity (parity=even,odd, or non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setting of speed (speed= option, none gives lis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line desciplines on Tru64 Un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line loopback tests (enable=loopba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al line loopback tests (if=/dev/tty00 of=/dev/tty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al line between different hosts and different OS’s to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Tru64 modem support (enable=modem, on Tru6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loopback support too (if=/dev/pig or /dev/pog, Agf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Test Program (dt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043B-55A1-4254-8EF9-236ECF10B99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88D9CD-9A53-42AC-AD49-3E27ECB7E6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0932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Tru64 Unix Specific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 Lock Manager (DLM) (munsa=cr, cw, pr, pw, or 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e Extended Error Information (EEI) (enable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e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s default).  On tape errors, full tape stats and EEI data is display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e bus/device reset support (enable=resets, repositions tap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ce info via DEC IOCTL() (DEVIOCGET or DEVGETINF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ally logs errors to system binary error logger *if* root! (enable=diag) Diagnostic message events are 35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LMSGT_DIA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64 Unix disk label caveats (first 8K of disk protected, must either skip label or use ‘disklabel –z’ to zero the disk labe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“sysconfig -q rt” to query the Async I/O (AIO) lim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Test Program (dt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6A5D-9D63-4D6F-B10F-A5FC327E89F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665E81-1C72-41B1-9A6D-2A0970ADE425}" type="datetime1">
              <a:rPr lang="en-US"/>
              <a:t>07/31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Other DT Support?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memory mapped f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FIFO’s and pip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any device capable of standard open/read/write/close(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upport for CPU’s, memory, floating point, video/monitors, network cards, or audio de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add new device sup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Test Program (dt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0C25-D7CD-436C-8D50-21864704F43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21D683-E67B-4157-A7D3-55E832E3B1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Special DT Note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T output written to stder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rect output to log via log= o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 files opened in append m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unted file system check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 of file/media exit status (25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failure exit status (255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 exit status is zero (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s cause non-zero exit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Test Program (dt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F088-EF74-48C2-A037-DFDB27E0A6A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DDE41A-3F50-4C67-B274-178C08BFE533}" type="datetime1">
              <a:rPr lang="en-US"/>
              <a:t>07/31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Example DT Test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t of=/dev/rrz1c bs=256k aios=4 slices=12 enable=lbdata,ra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t of=/dev/rrz1c bs=64k align=rotate step=16k pf=/vmun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t of=/dev/rrz1c min=1b max=1m incr=var enable=raw iodir=reverse pattern=i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t of=/dev/rrz1c bs=256k disable=compare,verify limit=1g aios=32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rite 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t if=/dev/rrz1c bs=256k disable=compare limit=1g aios=32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 performance onl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t if=/dev/PhysicalDrive6 bs=64k of=/dev/PhysicalDrive5 iomode=copy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age cop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t of=/dev/st0 bs=32k files=25 limit=50m pattern=i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t of=/dev/rmt0h min=1 max=64k incr=var enable=lbdata,raw records=100 files=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t of=/dev/tape/tape0c bs=1m limit=1g enable=resets,debug,eei log=tape0c.lo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t of=/dev/rmt0h bs=256k aios=8 pf=pattern_all volumes=2 vrecords=1k enable=lb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t of=/usr/tmp/dt-data bs=64k procs=10 limit=1m passes=12 disable=psta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t of=/dev/rfd0c min=b max=64k incr=7b iotype=random enable=raw runtime=3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t if=/dev/tty00 of=/dev/tty01 bs=64 limit=100k flow=xon_xoff parity=none speed=38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t of=NamedPipe bs=8k limit=1g enable=loopback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ate via “mkfifo NamedPipe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t of=- bs=8k limit=1g disable=stats | dt if=- bs=8k limit=1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Test Program (dt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10E9-67F9-42DB-9A09-341F5541A0F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69A0EB-6D65-4593-8E83-365D06AB745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Test Suites Using DT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, there are various labs using DT, including UEG, but I’ll discuss my group’s QSuite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Suite uses the Tool Command Language (Tcl/Tk, pronounc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ickle/tee k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ipts for disks, tapes, C/DVD’s, and Tape &amp; Automation de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t @ URL: http://leto.shr.dec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Test Program (dt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88F6-F904-400B-BC08-CB479B7617C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0A20E6-9E30-450E-BBA7-A1976B5B4E3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Future of DT?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, although DT is feature rich, it’s looong overdue for a rewr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is to create a modular design with support for multiple concurrent devices, POSIX threads, and an interactive m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izable, dynamic statistics, on-the-fly device inte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send me your wish list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Test Program (dt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0C45-5E74-4432-9711-422DB98E346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A4B60A-D521-4FA1-B73D-35091B248CC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Where’s DT Located?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in Compaq: </a:t>
            </a:r>
            <a:r>
              <a:rPr b="0" lang="en-US" sz="2400" spc="-1" strike="noStrike" u="sng">
                <a:solidFill>
                  <a:srgbClr val="5f5f5f"/>
                </a:solidFill>
                <a:uFillTx/>
                <a:latin typeface="Arial"/>
                <a:hlinkClick r:id="rId1"/>
              </a:rPr>
              <a:t>http://www.zk3.dec.com/~rmiller/dt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ttp://leto.shr.dec.com/~rmiller/d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to Compaq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ttp://www.bit-net.com/~rmiller/d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author via e-mail to:  Robin.Miller@Compaq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&amp; comments welco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Test Program (dt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E82A-7B56-41A7-8CE8-B144A427051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562751-C464-4C1C-A470-20CE5410522C}" type="datetime1">
              <a:rPr lang="en-US"/>
              <a:t>07/31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urpose of this training, is to provide an overview of DT’s features, options, and limit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contract to Tony Raymond, the Qualification Software Engineering (QSE) group in Shrewsbu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main area of expertise is doing device qualification on Tru64 Unix, Linux (Alpha/Intel), and Windo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Test Program (dt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46D2-873B-4F77-8218-B90A1482A46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DB941A-04CE-4B1B-A8BC-DD0FE6DA8BE7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Topics of Discussion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ces and O/S’s suppor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history of DT ev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ic DT features &amp; op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ce specific test op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64 Unix specific fea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suites using DT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DT enhanc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’s this DT loc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Test Program (dt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2BB3-E711-48C6-A2A3-76E60DF2B4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DA0A5C-3E81-4BEE-A013-756F0F50118D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Short History of DT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at Compugraphic initially for testing tape de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ly developed on SUN/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to replace Unix DD ut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 disk, serial lines, and other device type support was ad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was to be generic yet flexible enough to customize your t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Test Program (dt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97C0-0619-4CF1-94A1-226C2B2EDD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E6DD77-CE59-4400-8D7C-BB6D2ADDDFD9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0932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Numeric Input Format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= words (4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blocks (512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= mega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 = giga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tera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 or INF = Infin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8148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= quadwords (8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= kilobytes (1024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= page size (var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arithmetic allow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wise operations allow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’ for complex ma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4343400"/>
            <a:ext cx="6096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default base for numeric input is decimal, but you can override this default by specifying 0x or 0X for hexadecimal conversions, or a leading ‘0’ for octal conversions.  Please Note: Evaluation is from right to left without precedence, and parenthesis are not permit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Test Program (dt)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EAC9-9BA8-4AA7-AAA0-630A9095F8F3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7CA9A-E10C-4752-AF04-3DB7DF2992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56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Time Input Format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= days (86400 seco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= minutes (60 seco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57800" y="1981080"/>
            <a:ext cx="3657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= hours (3600 seco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= seconds (the defaul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30481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ithmetic characters are permitted, and implicit addition is performed on strings of the form ‘1d5h10m30s’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Test Program (dt)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46F3-DBDB-4214-AFDF-909C8B15BCE4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EAB68C-38E5-4261-B110-ADA52B3761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Generic DT Feature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rtment of data patterns (pattern= or pf= option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of I/O request sizes (min=, max=, incr=, bs= opt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 for buffer overwrites (pad bytes w/inverted patter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misaligned data buffers (align= op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block number encoding (enable=lbdata or pattern=io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s performance statistics (total stats after test comple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I/O request size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(incr=variable op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ous flags to control program behavior (debug, verify, et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uitive numeric and runtime string pars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 to control test operation (flags=excl,sync et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Test Program (dt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6EC3-73A7-4946-ACD4-3C559481C49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8BAF0A-C085-4AE5-ADF4-8A3592F15491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Generic DT Option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 I/O by data limit (limit= option, Infinite on disk devic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 I/O by record limit (count= or records= option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 I/O by volume limit (volumes= and vrecords= option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 I/O by runtime limit (runtime=timeString op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 random I/O limit (rlimit= op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of error limits (errors= option, default is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of pass limit (passes= option, default is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of multiple processes (procs= op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of process behavior (oncerror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continu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of device types, size, etc. (dtype= and dsize= option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X Asynchronous I/O (enable=aio or aios= option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Test Program (dt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CC54-6DAE-4BB5-8666-07A56458E22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665492-7E51-4591-ADAC-B37B761CD2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Disk Specific Feature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&amp; Sequential I/O (iotype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quent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rando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raw &amp; block devices (gleamed from stat() or IOCT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multiple file system files (unique files with child PI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copy/verify of disks (iomode=copy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verif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multi-volume media (enable=multi or volumes= opt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reverse direction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(iodir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wa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rever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multiple disk slice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(slices= option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file system file disposition (dispose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kee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Test Program (dt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2460-80FD-41F9-8B41-7ECADEB680A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F6AD03-C23D-4BF2-A915-6991B7D374C3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bin T. Miller</cp:lastModifiedBy>
  <dcterms:modified xsi:type="dcterms:W3CDTF">2001-02-17T20:44:40Z</dcterms:modified>
  <cp:revision>172</cp:revision>
  <dc:subject/>
  <dc:title>PowerPoint Presentation</dc:title>
</cp:coreProperties>
</file>