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01C-A79D-4D7D-B780-751B4FC1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32A-C1FB-4360-9701-A8B47B9D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A55-87BB-4CE9-9602-92682B04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D69-B27A-4694-B85A-B5A47AFD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65E-4B67-4D95-9C38-904B931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BCB-FFA1-46EC-A7D4-22DCDEDB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EF5-88B5-4D45-85D6-8F2B09CC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A0D-1BF9-43A8-A0B1-9D9F01AF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FF5-74E6-4C35-83D6-C3401328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12C-AE95-4ECE-AAED-6B260FB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9B3-578E-4E37-B77D-93FEFC1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0BC-202A-4F8B-B3C9-25774E98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B982-6E5D-45EC-93CE-EF69D945C2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514600"/>
            <a:ext cx="5029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6160" y="1219320"/>
            <a:ext cx="17524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96160" y="3048120"/>
            <a:ext cx="17524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96160" y="4876920"/>
            <a:ext cx="17524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57680" y="1905120"/>
            <a:ext cx="3429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32416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32416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d Inde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32416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57200" y="1371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0440" y="16146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20440" y="3138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2096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51460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95520" y="160020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809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66960" y="3124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3404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provider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5960" y="3124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72480" y="3124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3404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256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136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6224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3876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provider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968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provider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10080" y="37339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37339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695720" y="373392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67280" y="17524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857640" y="17524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43000" y="373392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666880" y="3733920"/>
            <a:ext cx="1067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523520" y="17524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90920" y="175248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9:35:01Z</dcterms:created>
  <dc:creator>Rolf Meyer</dc:creator>
  <dc:description/>
  <dc:language>en-US</dc:language>
  <cp:lastModifiedBy>Rolf Meyer</cp:lastModifiedBy>
  <dcterms:modified xsi:type="dcterms:W3CDTF">2002-07-24T15:31:10Z</dcterms:modified>
  <cp:revision>11</cp:revision>
  <dc:subject/>
  <dc:title>PowerPoint-Präsentation</dc:title>
</cp:coreProperties>
</file>