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A63-9D02-498D-8B20-3518EE50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0A0-EA62-4D55-B68F-A51E1067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D61-9949-43F6-A9FE-DC35BF6E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54C-6E58-4FFA-8238-1D45EBF5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DA9-D781-4C7C-85B8-903CEC6B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677-FC50-4D80-9E2F-A17C90EB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A2A-6A80-4864-A69F-E4E60865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394-A012-45B8-81BB-8FD41AFD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4D4-5C82-4792-9418-8C564EFA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DFD-877A-4A4F-9AAC-BC7601EC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167-8F5A-4A3A-A279-EC0434E1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FA9-8569-481C-9D2A-E115D104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4F13-6DDA-450A-B2E5-16CEC68EEA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2514600"/>
            <a:ext cx="5029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96160" y="1219320"/>
            <a:ext cx="17524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96160" y="3048120"/>
            <a:ext cx="17524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ath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96160" y="4876920"/>
            <a:ext cx="17524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57680" y="1905120"/>
            <a:ext cx="34290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232416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32416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d Inde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32416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57200" y="1371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20440" y="16146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20440" y="31384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2096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2514600"/>
            <a:ext cx="800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095520" y="1600200"/>
            <a:ext cx="800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77080" y="3809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66960" y="31240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ath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680" y="510552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34040" y="510552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ath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 provider 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5960" y="31240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72480" y="31240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34040" y="114300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52560" y="114300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81360" y="114300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66960" y="510552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62240" y="510552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38760" y="510552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ath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 provider 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29680" y="510552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ath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 provider 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10080" y="37339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373392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7695720" y="3733920"/>
            <a:ext cx="304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867280" y="175248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6857640" y="175248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143000" y="373392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9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666880" y="3733920"/>
            <a:ext cx="1067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523520" y="175248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590920" y="1752480"/>
            <a:ext cx="7617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19:35:01Z</dcterms:created>
  <dc:creator>Rolf Meyer</dc:creator>
  <dc:description/>
  <dc:language>en-US</dc:language>
  <cp:lastModifiedBy>Rolf Meyer</cp:lastModifiedBy>
  <dcterms:modified xsi:type="dcterms:W3CDTF">2002-07-24T15:31:10Z</dcterms:modified>
  <cp:revision>11</cp:revision>
  <dc:subject/>
  <dc:title>PowerPoint-Präsentation</dc:title>
</cp:coreProperties>
</file>