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071CF-5880-4572-B17C-8D9B65AA3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52B61-0CEB-4FC5-A2F3-D5C3BC5A0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9B175-9B14-45DF-81E2-26AE26B9A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451FD-9D84-4A64-B137-54883E3EC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B5145-234F-46E1-90FD-5E86ED6F6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FE4F0-1BDD-416A-9D78-B268B9EA7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8346E-6F2C-4C9C-8AEA-4B95E32C5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192A0-CE5C-4D8B-A93E-A78761B05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7D897-9558-44ED-8B6E-79FA73C78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0461E-2153-4E4A-870C-3CE3F928F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CEA7D-55DC-4CFB-B336-E93572C24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5C171-E3DC-419F-B3EF-5343ECC29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A1E71-5469-4308-BE31-58BC53822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23BF3-74C2-4A08-91B0-1E2D480FA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40CF7-C08D-427B-91D8-8ADC6D772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B7EC9-A5C9-421D-B386-70D9E0C8C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B69EA-505C-404B-B050-060108F1D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6B365-9193-41FF-B897-980323C44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28175-CAC3-4731-9354-483DB20C4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E885B-8383-4217-9337-1D415BADB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D6C35-7A3D-4568-85B7-3917E2EC5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3C7C6-7116-460D-A11A-59386D7F0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4552E-2440-45DB-ABC4-D15017B17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A5825-63E4-4D86-B111-6DD5A1292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C3F34-0A06-4AD7-BF53-3394E57601C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453E3-48B8-4EB6-A0D7-BB104B96B79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oda Directory Handl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eter J Braam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ata Structur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contents: DIR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handles: DH api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inodes: DI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handle cache: DC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d support: FID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irectory content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Blob of data -- size multiple of 2048 byt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s names and NDirFids (vnode, uniq) in network ord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s freemap, hashtable and other organizational structu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ents stored contiguously in Venus RVM, by page in server RVM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irectory Handl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 pointers, lock and refcount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tored in VM in the server in hash tab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tored in RVM in client, pointed to by fsobjs as part of VenusDirData.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ost operations on directories go through the DH api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rver has a DH cache -- needed for Copy on Write refcounting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ir Inod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 a page map for directory pages in server RVM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outines for retrieving and storing DH’s in DI’s and vice versa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py routin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Guts of server directory data storag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Lookup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Lookup maps name to inode numb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Lookup must go from kernel to Venus through venus_lookup upcal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ostly lookup uses inode number computed from FID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oot directory of volume is assigned inode number of mount point by Venus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Readdi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eaddir needs a Unix file hande (directory handle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pon open of a directory Venus writes out a BSD formatted directory container fi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le contains only names, no inode numbers or types (POSIX says this is all we need)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04T14:33:16Z</dcterms:created>
  <dc:creator>braam</dc:creator>
  <dc:description/>
  <dc:language>en-US</dc:language>
  <cp:lastModifiedBy>braam</cp:lastModifiedBy>
  <cp:lastPrinted>1998-03-04T14:49:58Z</cp:lastPrinted>
  <dcterms:modified xsi:type="dcterms:W3CDTF">1998-03-04T18:47:22Z</dcterms:modified>
  <cp:revision>1</cp:revision>
  <dc:subject/>
  <dc:title>Coda Directory Handling</dc:title>
</cp:coreProperties>
</file>