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89D8-DB31-42E0-AF30-88DD27C5C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18DC-DC90-4E51-B373-C5C556B7C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0F72-FE1E-4DF6-B17E-DF2637987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3575-3DF0-42F7-9ED0-B036D3DC8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29C43-7C6B-4A15-979B-EFA345055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5FFC6-17B3-446A-9118-06FE3C3D6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484AB-3492-4545-B6EA-498634DD8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F3840-7B22-4BED-BDCA-38255FEBC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76C59-4C55-46E0-9441-69435EC7F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CEDFA-F97F-4F89-BD5C-E4C420ED8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F8622-D02E-4D38-818A-C87623F73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7CBC-BA1E-4B35-ACD0-790DB089B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2486C-75B8-477F-9846-FACB860F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1E1C1-6DF5-4112-8B35-A990552CD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69B0C-77A7-4D8A-8BCA-7E2409ABD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972E4-0BD3-47DF-857B-C3F89AC8F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8D1D9-78BE-46AB-A5F4-00911D5B6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A72C-7F1D-407D-AC6B-7E527EFBD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D30E-FBD7-4BB8-87D7-29E4008A1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FA0D-C17C-4904-BE78-B92E5B0F1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F688-C120-43DB-82D2-49581F949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0D0C-39B6-4177-AE79-E60B68C1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738F-F62F-4AB3-AAB4-E8013C79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0DDE-7423-4C56-95AD-E339C96BB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04450-6013-472D-96D7-00212C4EBD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32591-C7B7-41D0-B644-BB633D6009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da Directory Handl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ter J Bra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contents: DIR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s: DH api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inodes: DI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 cache: DC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d support: FID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b of data -- size multiple of 2048 byt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names and NDirFids (vnode, uniq) in network or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freemap, hashtable and other organizational 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ents stored contiguously in Venus RVM, by page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Hand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pointers, lock and refcou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VM in the server in hash t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RVM in client, pointed to by fsobjs as part of VenusDirData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 operations on directories go through the DH api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 has a DH cache -- needed for Copy on Write refcounting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 Ino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a page map for directory pages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utines for retrieving and storing DH’s in DI’s and vice vers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 rout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uts of server directory data sto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ku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aps name to inode numb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ust go from kernel to Venus through venus_lookup upcal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ly lookup uses inode number computed from F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ot directory of volume is assigned inode number of mount point by Venu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di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addir needs a Unix file hande (directory hand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pon open of a directory Venus writes out a BSD formatted directory container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le contains only names, no inode numbers or types (POSIX says this is all we need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4:33:16Z</dcterms:created>
  <dc:creator>braam</dc:creator>
  <dc:description/>
  <dc:language>en-US</dc:language>
  <cp:lastModifiedBy>braam</cp:lastModifiedBy>
  <cp:lastPrinted>1998-03-04T14:49:58Z</cp:lastPrinted>
  <dcterms:modified xsi:type="dcterms:W3CDTF">1998-03-04T18:47:22Z</dcterms:modified>
  <cp:revision>1</cp:revision>
  <dc:subject/>
  <dc:title>Coda Directory Handling</dc:title>
</cp:coreProperties>
</file>