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B743D1-CE88-44BE-8D84-33EC6DCF54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1F3FB3-1495-4DA5-A765-0A83A9A08E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A82607-9A7A-4F39-B615-8453564269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C02C30-7A60-4EEA-836D-44BA33DE78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9F988DA-1F53-467A-85AA-8913693BF36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F51B15-E88D-416F-A9A6-BC5DC6D740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A71D2F-3624-41E6-A8CE-4577515F63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071036-2C93-48C1-BB63-3FB8F562C3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1467CB-E2FE-4805-AA1E-23D66B90DE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F241FA-35E9-46DC-B69A-1ED8C28BF0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A3733A-5DCF-4BDB-879B-9FD0A9AB72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9A2DBB-50AB-4968-A8D3-67AF84F65C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A1E4EB-5FDB-4200-8F19-0B45430A2E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039973-E304-4F36-9C45-C845052D46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E6975E-D094-4D11-865B-B3EF05A642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346B164-8430-4E3B-A401-4B12C295561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F3C6AE0-E4AC-4E09-A5AD-F17ED219F65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C040B2-3DA1-40B2-965B-9C513E91E3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677306-E6A3-4BD9-ACF4-29EC6C6B5A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657681-89C9-4A3F-B4DC-6F5A1A682C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DE3B43-AB3A-424C-B1C4-45980C3C96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ECA566-B9C1-4A7F-A0E6-FE43042703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9A387C-457B-4AF4-B961-F60FEC270C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61F0E8-EB04-4658-9931-BB9AC407CD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A06782-4530-4FA6-8A9D-38215FA4DD4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79D1C8-91EE-4291-9BC8-0FFE005121D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7337F29-404B-4325-9B14-3A0BB696013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462FB85-7C64-4BFC-8A31-7C8447DF5FCD}"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4479D6-F8F7-406E-8245-70F1DBBE9AF4}"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76E4E7-997F-402D-8CD3-6860CAF178A6}"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8A2A58-A943-4477-B030-9CC9E7970DB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927E32-4D57-4B6E-95D5-B2DC3969D329}"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4ECD65-6DE2-4FE6-A6E2-1A7F4065209C}"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F2B0AF-F2C2-41C4-8C55-2F455F0A8147}"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DEC2F6-AA7F-429F-856E-3942B85FD649}"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A35157-6232-4265-8E89-08A182188E12}"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8DC58C-A52D-465C-84D7-F403C0000503}"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071AC9-A8F6-4767-83D1-D5B5C3B2DD08}"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0D5A5E-4C6D-4C6D-8AB5-64789CDB084E}"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215825-B121-42B7-8251-794AAB0530A7}"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EF1CE3-DDA0-4344-83A5-67C86C2CC8B9}"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11864D-0FBB-4397-9732-9569195E2D0B}"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2727AA-A3BB-4058-B7C5-EF93D117DA73}"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D02F1E-DE01-4C66-8BB1-5322880CABEF}"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5AEEC3-2E19-490B-860A-9C72664C3ED8}"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6B9911-540B-4220-B782-D81E6451E771}"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071526-6E75-4E9A-9AAB-6EC6134FFBDA}"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F0012C-1A68-43F1-8A06-04446629EFFF}"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785584-7356-4CF9-A670-9BBEFC1CD12F}"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67B748-DFDD-4944-9B6A-F4840898BA94}"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982998-B33E-4EA4-B1EA-8EACC1EF6F63}"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4C283C-6B9D-4D4F-89FA-613895B01CC5}"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3E6A7E-A346-4CF7-A50F-50F906C3B006}"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E7EF32C-BFAB-4B8A-B530-1F96EBF054EB}"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22E364-B071-4689-BB73-F8C4D277F241}"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4EB4E6-3CC9-4BA5-AC0A-F7CAFCF6BB9E}"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45EB97-B281-44B8-A7CB-07E70F3E0D46}"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E6F2C2-0DDB-4DFE-859A-A61A23A8A4D0}"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68AE06-65BE-4E7F-B221-4D5B027360A6}"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8A959C-9769-4A17-A750-9DCB2EF1430D}"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3E9443-E96E-4FBE-9DBF-E630F3D6E26F}"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111598-25C4-4631-9D7D-77467833A1D2}"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B562B3-0D30-4720-BC2F-C5FA0DD5F65B}"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E85122-9986-4268-8C64-855777F5836C}"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6F54DC-604C-4263-8F59-5E2C26617C11}"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F2A07F-9BAF-4642-8D33-E61B3D120495}"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E4B261-197C-440F-89C8-E63321421144}"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9F98E4-C775-4003-AE84-FE82B156FBFD}"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876855-6905-4CD9-A76B-98CECDC39986}"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A74429-80C7-44CD-85D9-36ABEFB8B561}"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5F4469-1AA2-42F0-9F7F-0358A72AA4B3}"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74A9FD-742E-465D-98A9-4D4269B53D94}"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7DEE17-AAF8-4EDE-9C8C-DDD52DE665B2}"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88A9C0-B7A1-45CB-9436-D16563CC631C}"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5CE8C3E-31C9-4B02-8231-580F7362EA78}"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790192-ECB1-4318-A881-C08DDEFEFBC4}"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F42D18-5968-4DD0-A29D-742BF8E70230}"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A96D426-25C4-4A3D-B637-AA91E5921C35}"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14ABB5-68F6-447A-8C67-C3273DB95B8D}"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E321A4-3CD4-490A-9E2E-FD69C5100262}"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C3DADA-DC4D-4144-B33B-178A6AC1B0B7}"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13D441-C2BA-46C9-9403-6A9E66C8E0BA}"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5F1BC8-B0F7-48F6-B16E-24643F982E1B}"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448410-5029-4480-A753-0E48BEAECB3A}"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D35F3F-C8EA-4EBB-A623-611EEE662903}"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0AACC81-7D17-4CEA-8B9D-78FC0E9E0E24}"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5480A1-A1AE-45C5-9469-7A94F7377C31}"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03B503-7CA0-47D4-91CC-B2FE956BAAEE}"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4CE073-578D-420F-905C-4952C1FA5BFD}"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781D0A-AD1F-4E0E-A0A7-302879315BF2}"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1C131C-FE8F-4C55-AA99-28ABF96C158E}"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48314C1-B00D-49D8-9386-AFEDC310A700}"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9F8E83-DB7E-43FE-B239-3E0C21996A7B}"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EE8407-EEFA-4305-A794-6D74A37D2F5A}"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68AA4A-31D6-4EDB-AABB-4A967BA3B6F6}"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52C742-8DAD-43B5-A5DD-871DBA067221}"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4F28934-1F6F-4131-BA6B-1CE6D335FE05}"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92EA23-E307-438D-8C67-0C4ECFC732A9}"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974836-998F-4258-930C-57F923DF1383}"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DCD4EB-0FA9-44B1-88F4-366E4911DE72}"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4E8562-B77E-4B95-B55C-1EB40B97B7B3}"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6C88F4-4448-4196-8CBF-949DD5D7CA0D}"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8A763D-9FF6-4620-A5AF-6A8B5BC738F6}"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83CB1C9-3374-4212-96F2-C02A85167AB4}"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56D498-B25B-4920-BDC5-F121C1B9AD7F}"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EA8C6F-17BB-4BD8-97DE-4BA5CF2A0115}"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CEB863-F461-431D-9863-336F93CB580A}"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093B007-DBB8-4D1A-96FF-32463CD2C307}"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3EEB3C-7CC0-4219-B409-2C6ED750B88C}"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8E7D7B6-9D42-4435-AF3B-447C1D965F4F}"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3AC0A5-B2C0-423C-B895-2C0B23C06306}"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675686-45F2-4E2B-B646-ADB0890F4399}"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E9D1C2-A855-408A-965B-7074C7B4DA01}"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C16854-A1F5-4F46-A0A5-0882BF1847A9}"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18C997-F369-4B9E-BBA5-5BD343A2D5BA}"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58567F-AD62-4003-A7C8-FAFDE6EB3BCE}"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0A26E6-2C6F-4262-A5E2-C42A2934B63E}"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6F2CA5-AB87-424D-AD95-A353F60E70A6}"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21E657-2A0A-4AF8-A28C-C2C7AAFEA7D1}"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5904BF-17E0-4B7D-8688-30EF594170CB}"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53C68D-CEA3-49BD-83E9-3DC61DB8AB71}"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B00D80-67E0-4C48-9EE9-84B9028F9569}"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82B296-0EDA-4B6C-9825-0D9977262ADC}"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9E5794-87A3-4ECC-B677-4F1ABF000168}"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AD1BDE-36BD-4B36-8689-936ECDDB9288}"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4A76A2C-9AB7-49C6-BBEC-CE5ED931942F}"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329E76-CA2C-481D-AD0A-635BE6E3000A}"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2979E9-C6AF-41F1-9CC3-F1BBAF5CFBDB}"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EB054F-F406-474D-9F20-BB226D8844D4}"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61E312-A096-4477-9D9A-F296C221B5A7}"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C20935-28E0-48EF-AF3F-5718C2721E06}"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A1FFA2-2C71-4856-8991-4BDD177C8837}"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817473-E5EB-480C-AD20-68E328AC1985}"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03BB39-3E61-410E-95DC-4779FF11DCDD}"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7AB69B-2708-48D4-A0CB-548ADB83C664}"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2AA2C4-524C-4CF2-9888-317C9027E7A9}"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B0B75C-1355-4D54-AE14-49FB424C4230}"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9536DE-BEAA-4E49-90E3-AFEDA5A9526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8443C1-06E0-46E4-89BE-7D08DA75EA83}"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B6E8DC-B415-4FAD-B1A2-3C9FC79A8238}"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3B4833-B416-4817-A75E-67232E295D8B}"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559DA7-29BF-4B68-B0C4-D6D12992A53A}"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0118DE-EBCD-47AD-B8EC-93618583995A}"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5B69FD-B618-4872-81B1-1F2F68FCBFB6}"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94BDB9-33F1-4FB2-AFF3-3BE16A7D9D5D}"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B296E6-25DA-496E-AF84-AFB58D9AED60}"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774BCC-4823-4C07-B75F-070317C21982}"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96B5B5-F5E8-4046-8D32-CA7A41FC8DAB}"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689012-A1DC-49C2-B2EA-82009641A63E}"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5BF570-79AF-4429-8752-DB1C04C20682}"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C70BC5-89CE-4ED4-9ABF-67E0A385B1D4}"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3E5D4B-A3EF-482E-8FAB-38EE4B30F7A4}"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D76CD2-8FB2-4A40-BFB9-A9CBF2884F33}"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1B8D3AF-289B-4C0B-A372-78E5BB9022CB}"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88FF0E-875F-48A5-B712-C6DE4E55F2F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CF2D13-1F34-493C-84DA-88487567A2E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EF2DCE-2495-496C-8293-FC84E9CB666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FB4492-C76B-4DD2-95D7-392A17642F6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923480-43B0-49DD-9DA4-CC18C7B235C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06CA85-589C-497E-B8E4-3F197F9325D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F14DF00-D536-43D3-A3EA-DB074C64468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8D72C0-93D2-4EFF-B02D-81C72C9981E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6EB1AD-9AD4-464E-9C12-84C1807D767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5DE55F-6600-4C2A-943E-70558B605F5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E26D1D-090B-47C6-AF18-04E5559ADEC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B87799-FCCB-4549-BB74-19C352A5D87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5AB7FD-13F9-4F98-B88C-0456D908CC8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7A8593-0A6A-4369-89E0-026BF3E4EFC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EB9B18-36C7-45DF-87D7-AF61D4344A8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4E57CB-6635-46D7-8D69-E55C0920E84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AEE595-A86A-4ADF-8C09-845FBFABA12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1EEB18-DBD0-4E42-83B9-E6DB6556FE3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A127DB-FD36-42FF-B378-908F1208B56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CA0E17-08A9-4E82-8659-E567EAA1E81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385E5F-DE2D-4843-B66F-96B52BD77DB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559C90-0532-4E3D-B8E3-AE2F6305D37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A90691-CED9-4139-A276-BC281851EB4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FA3B3A-14BE-4B86-A798-A7612DC492B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7D963E-03B7-4C38-97CF-83C16896703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BB0CBD-D451-46CA-A1E4-500F40B44AD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F2506D-3FD1-447F-8CA2-E8BF8B46873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3690E0-662D-46C1-9EBC-C75852CFFC8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BA18B9-1320-4F1B-9E11-16477D32D8F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72A0BA-6C86-469D-A0BF-BC053DF1A91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38BE56-CC04-40EC-B48C-99B75DD00B2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21919D-BB4C-4CBA-84DA-982443C82B1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CC3097-B667-445C-B505-939E9370238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31BE24-E73F-4352-BE24-99A892F2A03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75944D-A9C3-4156-AEE6-ACD41B169B5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302F1D-7B2E-421C-850B-DF79264BA94A}"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237CFA-8450-45E1-92D2-9629515A399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3F12FA-D3E3-4945-9C4F-7CDB8682FE6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1572A2-5A85-4575-B341-8A5E063E60B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ECFECA-8207-40E9-8C03-A314274F6EB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97D6F7-0043-4508-9495-48C4776FF4A7}"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7A05D7-37A0-46BF-AA9E-072DCD694902}"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CBEDD6-5825-4C9C-9DC9-BE7CC81E7A40}"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A0DF97-3DA1-47A7-A8CB-E3B00EB1440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6DFDDB-65F0-4058-9655-5DD5FC525B3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E1F5A0-77A7-4F96-A484-7364B8967C5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91BBF1-5D4B-467E-AAFC-C0D5BF3D7CA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BF3D016-B948-4AFE-9701-3197579ECAA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E1FD3F-A50E-4AA6-A989-FC2BFCC38F8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D7026C-FAD2-4A08-ACAD-AB8F0F8F4BB4}"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803127-DF3D-42B8-BD70-8D0528870AA9}"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138532-3406-4F8A-A4B4-644468E6BCA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21EA16-6359-4D82-9A01-909C25D950D9}"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773497-2035-41F2-B25B-67DDF383F796}"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B8DAA6-E909-4AE5-9B7D-9F99D525F63B}"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03A36F-1E57-425F-8BA0-F40F90ABD916}"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CFFCEB3-7B62-46E8-962C-8DF8AFA6B4C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B0D4E1-2E60-459E-88D9-FC633FBF2BD4}"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7CC9F5-496E-4422-B7FA-ED4362FF3C70}"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F64A93-764F-45C0-87D5-863458F6E02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76D32C-B9EF-4BEF-87C6-35A6E4B784FD}"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80C7D3-E0B1-412D-AF27-C598FBC8CBE9}"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5E2446-1BC5-4248-903C-4A89940DC4B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8C8870-0E4B-4084-AC7A-A1A3E76B197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F88488-7D3D-4C1B-A241-68824733EBC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27EE63-7032-477A-A74A-CC1847FF9698}"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60C428-9C0A-4D7E-934F-F53955FC97FD}"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006816-186E-48E3-943D-1D83D4AE5882}"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A9C431-9F2C-4658-B28B-7D14ABE0282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FF0185-DA7C-4692-B653-E220B91E91C2}"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5F0C9E-1783-4208-89B5-5781283FDB72}"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2F76978-FA43-4A03-9560-E9076237836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A2F917-6E25-44EA-B3A7-0D176A32B23C}"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3CDDA7-274D-4FD6-A4B6-8AB669A5BBE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B9DEF8-28C7-4647-9087-56E6DD4BBBF0}"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69EC54-27E0-40C4-88DD-ECE4E389C870}"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75743D-6FCA-4F7D-81A6-A0F440E3C21D}"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0CB60C-0881-4FFE-830B-E9694F0234D3}"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A1B491-1588-444E-88F4-EB137DAD9E97}"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2F2C9A-4AE3-48AB-872C-94766F74232F}"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B6F20A-9F6B-4EA7-9C3F-93509817D5CE}"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64BBE2-9344-488F-9AD4-3BBA190BFE7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CF34EF-E8E7-44F0-ACC5-84B7A56F3FA5}"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6C30A4-72AF-4404-B8BD-7DC4764199A6}"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A59ED5-B758-439E-9085-6974B07F65E7}"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